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E4F-C39A-4A9C-972B-D041C27E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DF8-3B54-4942-9DB1-BCDBA3E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A6C-18A7-4485-8B43-EA7E46BF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0E0-6EB0-48DF-86FE-3BF76809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872-E3CA-44AE-AF80-F2F2B510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3FF-13DF-42E4-8F9E-1FCA902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9F8-FC26-416F-8046-E7275CE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02E9-9A1E-4455-90C2-74FAF8E8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4130-B356-42BF-B1F0-4F00BD1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09B2-CE56-4658-AA99-DABEB61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161-AFF3-4802-9EC5-D345CA1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529-A99B-4A11-93EE-6D1BE47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FEC-AAE7-4A3C-8C6A-E7ACA06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28BF-3043-4953-964E-1D85C63B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EE4E-A7ED-4972-B912-65CAF31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E90-DB82-411B-9A01-27E9F277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ABC-AF93-4F22-85A4-1582E708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9B2-9B07-446A-A261-1F524C03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D10-37E3-4425-96B3-676367A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1F2-D1B7-4318-8A90-BA749E4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3D3-6CAA-4AFC-AA60-10CF0B6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E1D-DD6C-4587-9C07-64101C7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9EF-A100-4D4B-AA3A-2298FC2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251-E0D1-4569-904D-B286A2B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8F3-37E4-421D-A53C-846F81CC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BF42-6D07-42C3-BB40-F376FC4C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’s the EQ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your way in writing Essential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hat you know at this point about the monster, Victor Frankenstein, and the novel.  Also consider important themes and ideas in regard to Romant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thos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ink of the monster project:  What question do you think, if explored further, will lead you to a deeper and more profound understanding of the novel Frankens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at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everal essential questions for your research report/project using the Question Brainstor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with your group to discuss and get feedback about your essential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essential question you will use for you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questions which touch our hearts and souls. They are central to our lives. They help to define what it means to be hu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st important thought during our lives will center on such essential ques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 good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friend shall I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I include in my circle of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all I treat my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’s are at the center of all other types of question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3520" y="5670720"/>
            <a:ext cx="78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other questions and questioning skills serve the purpose of "casting light upon" or illuminating Essential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racteristics of EQ’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Questions probe the deepest issues confronting us . . . complex and baffling matters which elude simple 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em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ay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racteristic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ow peop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the conn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ir personal, individual, unique experience of the world and its exterior, held-in-common dimen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ploring essential questions together, people are ab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expression for their own strongest gifts and inter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ame time that they are able to establish a sense of community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open-ended and resist a simple or singl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deliberately thought-provoking, counterintuitive, and/or controvers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quire students to draw upon content knowledge and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revisited throughout the unit to engage students in evolving dialogue and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ead to other essential questions posed 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quires Students to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(make a thoughtful choice between options, with the choice based upon clearly stated 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(invent a new or different vers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(develop a thorough and complex understanding through skillful questio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:"What makes a video game good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TEGORIES: graphics, ease of use, violence, and audience appropriat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 QUESTIONS: "How do graphics affect the quality of the game?" or "How does ease of use contribute to its overall rating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1:13:05Z</dcterms:created>
  <dc:creator>Brandi Caldwell</dc:creator>
  <dc:description/>
  <dc:language>en-US</dc:language>
  <cp:lastModifiedBy>Moody High School</cp:lastModifiedBy>
  <dcterms:modified xsi:type="dcterms:W3CDTF">2008-10-23T20:13:54Z</dcterms:modified>
  <cp:revision>2</cp:revision>
  <dc:subject/>
  <dc:title>What’s the EQ?</dc:title>
</cp:coreProperties>
</file>